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4A39-76D6-4A96-B467-DD8A744E6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8D46-6AEE-43D9-8A8C-C799C32F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27DC-BE59-44D0-BC79-771358C3B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73C5-DBDF-4598-BA72-B61A9D7EC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83AD-39C4-4393-9AAA-9887534F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9215-D99D-4418-BA47-BE076A60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BB42-D118-4E34-914D-BE571F89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E43B-987C-4323-8B24-181FCB15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0243-3639-4982-AAD7-E4169733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C653-5EDB-46DC-BDDE-D5591962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8991-947F-48E0-8E37-0319A7B8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6C0C-C4E0-4D83-AC19-D417008F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F394-D50D-488A-AC9B-D9315358A5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3276720"/>
            <a:ext cx="48765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短语集萃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14920" y="228600"/>
            <a:ext cx="8244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 --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don’t we take a little brea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Didn’t we just have _______?   (NMET2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t          B. that            C. one            D. t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________was last night that I saw a new fil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t         B. This            C. 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D.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 I hope there are enough glasses for each guest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ve 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t          B. those          C. the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D.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This had made _______ possible for us to catch 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 the developed count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       B. it           C. us           D. our cou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 I was disappointed with the film, I had exp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 to be much bet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B. this            C. one              D.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06040" y="600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29320" y="1438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67400" y="2733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14960" y="3571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57920" y="5334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7240" y="371520"/>
            <a:ext cx="8811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m' s mother kept telling him that he should wor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rder, but_______ didn' t hel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e              B. which           C. she           D.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 Does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tter if he can't finish the job on ti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is          B. that           C. he               D.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Meeting my uncle after all these years was 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forgettable moment_______ I will always treas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          B. one            C. it           D. w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 Is_________ a boy or girl?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A. she           B. he            C. one           D.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---Look, who is coming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---__________ must be our English teacher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A. She       B. He         C. It             D. Th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81800" y="752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91440" y="1590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57960" y="2886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62840" y="3724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62840" y="5019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1000" y="447840"/>
            <a:ext cx="9134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one is knocking at the door, but who can____ be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A. one         B. he           C. she           D.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 ______ was late summer and the weather was very ho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         B. It             C. This            D. It's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 _________ a heavy rain last night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A. There had              B. We had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It was                      D. There i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 _________ is 200 kilometres from here to the nat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k. We have to go there by car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There          B. It            C. This           D. The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 If you can dream ________, you can do 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one, it           B. it, one         C. one, one       D. it,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58720" y="371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05280" y="1285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81600" y="2048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05280" y="3343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20240" y="4638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338560" y="2581200"/>
            <a:ext cx="446688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20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93400" y="152280"/>
            <a:ext cx="81298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May 3,2002,archaeologists found a grave of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 dated back to around 2300 B.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 to his head was two pots,a bow and arr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hunting and a small copper kn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an was buried with two gold earrings 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the oldest gold being ever found in Brit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iggest stones weigh for 20 tons and c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a place not very f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may have had a hand in helping transport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ling up the st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990720"/>
            <a:ext cx="8380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62360" y="600120"/>
            <a:ext cx="11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190512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539760" y="1895400"/>
            <a:ext cx="9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3276720"/>
            <a:ext cx="762120" cy="3045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05720" y="334332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e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848720" y="3276720"/>
            <a:ext cx="38088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95680" y="3962520"/>
            <a:ext cx="4572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95680" y="449568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4120" y="4572000"/>
            <a:ext cx="76176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6172200"/>
            <a:ext cx="10666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29000" y="570564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94840" y="371520"/>
            <a:ext cx="8468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Bronze Age,they made copper and bronz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iron came later,in which was called the Iron 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bjects will serve for important materials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udy of local geography and environ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chers and officials came to his home,but nei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m could say when the objects were m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was four o’clock in the afternoon that he and h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dpa reached the museum in Guangh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aeologists will continue their work,dig at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xingdui Ruins from 2003 until 20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14800" y="1295280"/>
            <a:ext cx="9144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44120" y="120960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213372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833960" y="19810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91520" y="3429000"/>
            <a:ext cx="10666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82040" y="335268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4648320"/>
            <a:ext cx="7621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54160" y="464832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0" y="594360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47440" y="6019920"/>
            <a:ext cx="13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ig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80880" y="30492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20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1770840" y="981000"/>
            <a:ext cx="30322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追溯到…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给某人一个…的想法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一件衣服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趋于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与…有联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参与，插手于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竖起，使（车、马）停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用…的话，以…的观点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有名望，威望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充当，担任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使某人想起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属于…，是…的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挖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58480" y="981000"/>
            <a:ext cx="21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date back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30640" y="1447920"/>
            <a:ext cx="287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give sb. an idea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920" y="1828800"/>
            <a:ext cx="30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a piece of cloth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40800" y="2209680"/>
            <a:ext cx="132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tend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15320" y="2581200"/>
            <a:ext cx="19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be linke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43920" y="306216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have a han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72360" y="3495600"/>
            <a:ext cx="12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pull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68160" y="3876840"/>
            <a:ext cx="181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in terms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00040" y="43340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a high st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42840" y="4714920"/>
            <a:ext cx="137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serve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68680" y="5181480"/>
            <a:ext cx="262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remind sb. of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52680" y="562932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belong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76880" y="6086520"/>
            <a:ext cx="114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di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2743200"/>
            <a:ext cx="7153200" cy="28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Multiple choices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09480" y="45720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20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9" name=""/>
          <p:cNvSpPr/>
          <p:nvPr/>
        </p:nvSpPr>
        <p:spPr>
          <a:xfrm>
            <a:off x="-228960" y="1066680"/>
            <a:ext cx="9477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The castle ________to the 1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entu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dates from                 B. dates 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dates at                       D. dates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The first textbooks _________for teaching English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foreign language came out in the 16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entu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aving written              B. to be wri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being written                D. wri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Are you sure the trees can ________the coming c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nter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urvive    B. pass      C. overcome      D. l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52840" y="98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01120" y="2657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91840" y="4791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13480" y="219240"/>
            <a:ext cx="85658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I can’t remember _________it was five o’clock 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arri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ether; when           B. that ;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hether ; that             D. that ;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By sunset, we had __________thirty m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covered at              B. covered for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covered                  D. covered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This is one of the problems__________at the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xt we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discussed                         B. discussing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being discussed                D. to be discu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Never_______faith in himself, the scientist went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 his resear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losing       B. to lose       C. lost          D. to be l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72520" y="142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01120" y="1819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44120" y="3191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67400" y="4867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6680" y="142920"/>
            <a:ext cx="88585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. 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examination, all the students are stud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Don’t fail                  B. Not fai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Not failing                D. Not to f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---__________is it that I should take the medicin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Twice a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ow much                 B. How soon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How often                  D. How l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 ---I really _______that I will meet you again in Chi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So do I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ish        B. hope           C. suggest         D. pre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 ---Who do you think did i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I suspect Tom__________it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ad a hand in            B. had hand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had a hand at            D. had hand 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77040" y="66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10200" y="1819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76880" y="3495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96200" y="5248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2840" y="219240"/>
            <a:ext cx="8855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2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our great joy, the medicine ________satisfac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as proved     B. is proved    C. proved       D. pro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 _________customer satisfaction, the policy can’t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iticiz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n terms of                 B. In the term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In the terms of           D. In term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 ________at the bottom of the hill there are man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autiful flow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Grown                     B.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Being grown           D. To be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 _______is said _______ Mr. Brown left for Italy l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t; why                  B. It; that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hat; that            D. What ; w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29920" y="142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57920" y="981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57560" y="26575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28960" y="4410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520" y="219240"/>
            <a:ext cx="91814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. --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n’t it about the time you_______to discuss i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Yes, it is. Would you like to join u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ave begun    B. begin  C. began      D. had beg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 Do you think the young man Miss Smith is spe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___________, Mar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pretty      B. beautiful      C. handsome      D. lov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The question is ________they can finish the work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ether         B. which         C. that           D. w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 Mary stood on board, _______her face burnt in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leave         B. leaving           C. to leave          D. 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 Is this restaurant _______you said we were to ha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per tomorr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at which    B. which         C. in that   D.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44120" y="142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86520" y="1819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91640" y="2733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29360" y="3952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20240" y="4952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53360" y="272880"/>
            <a:ext cx="25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五）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代词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it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专项训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640" y="914400"/>
            <a:ext cx="86893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_______ necessary to master a foreign langua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ese      B. those         C. that         D.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The Johns have a new baby. ________ is lo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e          B. It               C. She          D. 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----He was nearly drowned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When was _________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_______ was in 1998 when he was in middle scho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, I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B. this, This   C. this, I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. that, T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I hate ______ when people talk with their mouth fu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B. 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C. these          D.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We found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ery difficult to learn Japane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10200" y="752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96040" y="1743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86720" y="2962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91440" y="4257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05840" y="5095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</cp:lastModifiedBy>
  <dcterms:modified xsi:type="dcterms:W3CDTF">2005-06-19T12:51:52Z</dcterms:modified>
  <cp:revision>11</cp:revision>
  <dc:subject/>
  <dc:title>PowerPoint Presentation</dc:title>
</cp:coreProperties>
</file>